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6.jpeg" ContentType="image/jpeg"/>
  <Override PartName="/ppt/media/image17.png" ContentType="image/png"/>
  <Override PartName="/ppt/media/type.wav" ContentType="audio/x-wav"/>
  <Override PartName="/ppt/media/image15.jpeg" ContentType="image/jpeg"/>
  <Override PartName="/ppt/media/image5.png" ContentType="image/png"/>
  <Override PartName="/ppt/media/applause.wav" ContentType="audio/x-wav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3635640" y="649440"/>
            <a:ext cx="308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alibri"/>
              </a:rPr>
              <a:t>j  q  x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同侧圆角矩形 3"/>
          <p:cNvSpPr/>
          <p:nvPr/>
        </p:nvSpPr>
        <p:spPr>
          <a:xfrm>
            <a:off x="468360" y="13287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476280" y="1897200"/>
            <a:ext cx="80406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1308240" y="1927080"/>
            <a:ext cx="69148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同侧圆角矩形 3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线连接符 21"/>
          <p:cNvSpPr/>
          <p:nvPr/>
        </p:nvSpPr>
        <p:spPr>
          <a:xfrm flipV="1">
            <a:off x="468360" y="1414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708120" y="1547640"/>
            <a:ext cx="7742160" cy="45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06-013"/>
          <p:cNvPicPr/>
          <p:nvPr/>
        </p:nvPicPr>
        <p:blipFill>
          <a:blip r:embed="rId1"/>
          <a:stretch/>
        </p:blipFill>
        <p:spPr>
          <a:xfrm>
            <a:off x="108000" y="981000"/>
            <a:ext cx="8940600" cy="5300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06[1]"/>
          <p:cNvPicPr/>
          <p:nvPr/>
        </p:nvPicPr>
        <p:blipFill>
          <a:blip r:embed="rId1"/>
          <a:stretch/>
        </p:blipFill>
        <p:spPr>
          <a:xfrm>
            <a:off x="179280" y="1054080"/>
            <a:ext cx="8818560" cy="5226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2629080" y="1119600"/>
            <a:ext cx="3995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Xià  q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 棋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xǐ  yī  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fu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 衣 服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dā  jī  m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搭 积 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5421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3598560" y="1701720"/>
            <a:ext cx="3640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花  国  火  家  下  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果    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3" descr="katongxingxiang2_071"/>
          <p:cNvPicPr/>
          <p:nvPr/>
        </p:nvPicPr>
        <p:blipFill>
          <a:blip r:embed="rId2"/>
          <a:stretch/>
        </p:blipFill>
        <p:spPr>
          <a:xfrm>
            <a:off x="5869080" y="2565360"/>
            <a:ext cx="3162240" cy="34624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4"/>
          <p:cNvSpPr/>
          <p:nvPr/>
        </p:nvSpPr>
        <p:spPr>
          <a:xfrm>
            <a:off x="1042920" y="3573360"/>
            <a:ext cx="4105440" cy="1943280"/>
          </a:xfrm>
          <a:custGeom>
            <a:avLst/>
            <a:gdLst>
              <a:gd name="textAreaLeft" fmla="*/ 0 w 4105440"/>
              <a:gd name="textAreaRight" fmla="*/ 4105800 w 4105440"/>
              <a:gd name="textAreaTop" fmla="*/ 505440 h 1943280"/>
              <a:gd name="textAreaBottom" fmla="*/ 143784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小朋友读得可真棒呀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椭圆 2"/>
          <p:cNvSpPr/>
          <p:nvPr/>
        </p:nvSpPr>
        <p:spPr>
          <a:xfrm>
            <a:off x="3279600" y="1125360"/>
            <a:ext cx="3024360" cy="129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016840" cy="5803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3875040" y="1558080"/>
            <a:ext cx="2619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bf1de"/>
                </a:solidFill>
                <a:latin typeface="Times New Roman"/>
              </a:rPr>
              <a:t>在一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黄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小黑鸡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欢欢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喜在一起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刨刨土，捉捉虫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青草地上做游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同侧圆角矩形 3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1020600" y="1900080"/>
            <a:ext cx="707256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6512040" y="1197000"/>
            <a:ext cx="1152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260360" y="2205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一只小鸡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58766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70880" cy="518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0920" y="1922400"/>
            <a:ext cx="165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835440" y="32338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先写竖左弯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再写小圆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580000" y="13399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竖弯加点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860400" y="1967040"/>
            <a:ext cx="7620120" cy="4268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332000" y="907920"/>
            <a:ext cx="208908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5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924360" y="33577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气球拖线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52560" y="757080"/>
            <a:ext cx="9059760" cy="5480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2050920" y="1922400"/>
            <a:ext cx="165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995640" y="4076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左上半圆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946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4a11c41185d339a3277fb588"/>
          <p:cNvPicPr/>
          <p:nvPr/>
        </p:nvPicPr>
        <p:blipFill>
          <a:blip r:embed="rId1"/>
          <a:stretch/>
        </p:blipFill>
        <p:spPr>
          <a:xfrm>
            <a:off x="108000" y="982800"/>
            <a:ext cx="8966160" cy="5373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344600" y="25560"/>
            <a:ext cx="1447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5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297320" y="1943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刀切西瓜</a:t>
            </a: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4" descr=""/>
          <p:cNvPicPr/>
          <p:nvPr/>
        </p:nvPicPr>
        <p:blipFill>
          <a:blip r:embed="rId1"/>
          <a:stretch/>
        </p:blipFill>
        <p:spPr>
          <a:xfrm>
            <a:off x="158760" y="981000"/>
            <a:ext cx="8929800" cy="5400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3817800" y="1568520"/>
            <a:ext cx="1654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276720" y="43545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先右斜再左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111480" y="15685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像个叉叉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" descr="}M655J9AJILB_)M7EDS(B9C"/>
          <p:cNvPicPr/>
          <p:nvPr/>
        </p:nvPicPr>
        <p:blipFill>
          <a:blip r:embed="rId1"/>
          <a:stretch/>
        </p:blipFill>
        <p:spPr>
          <a:xfrm>
            <a:off x="596880" y="1851120"/>
            <a:ext cx="72928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1420920" y="1957320"/>
            <a:ext cx="72943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21:00Z</dcterms:created>
  <dc:creator/>
  <dc:description/>
  <dc:language>en-US</dc:language>
  <cp:lastModifiedBy>啊啊</cp:lastModifiedBy>
  <dcterms:modified xsi:type="dcterms:W3CDTF">2017-06-24T15:02:58Z</dcterms:modified>
  <cp:revision>6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